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CDF0C-6AAC-4F2B-88B2-34A2CB38A834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3 November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IS/2 Workshop 5, Houston, TX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13</a:t>
            </a:r>
            <a:r>
              <a:rPr b="1" lang="en-US" sz="36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Nov 2000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Flavour Fil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160020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74240" y="104400"/>
            <a:ext cx="87915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oprietary item - passed by referenc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22120" y="1069920"/>
            <a:ext cx="865692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901 = ITEM_REFERENCE_PROPRIETARY (’1_12513', #90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902 = ITEM_REF_SOURCE_PROPRIETARY (#903, Zeta Sections for Purlins and Cladding Rails , 1996, $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903 = ORGANIZATION (‘AYRSHIRE_DAV’, ‘Ayrshire Metal Products (Daventry) Ltd’, ‘Cold formed metal products manufacturer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904 = SECTION_PROFILE(2, ’Zeta',’Cold formed purlin section’, ’Slender', 10, .F.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905 =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TEM_REFERENCE_ASSIGNED (#901, #904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p th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ort - native to neutra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ort - neutral to nativ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Probably the most difficult and demanding task of the whole translator development process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Unlikely to be simple one-to-one mapp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Can be subjectiv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Dependent upon knowledge of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IS/2 neutral data structures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... AND ..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vendor’s own native data structur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406440" y="3386160"/>
            <a:ext cx="2205000" cy="264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 aspects of mapping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 structures (the template mod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 values (the populated mod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quired when using a native databa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35040" y="3562200"/>
            <a:ext cx="1693800" cy="2170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23720" y="3811680"/>
            <a:ext cx="935280" cy="1711080"/>
          </a:xfrm>
          <a:custGeom>
            <a:avLst/>
            <a:gdLst>
              <a:gd name="textAreaLeft" fmla="*/ 45360 w 935280"/>
              <a:gd name="textAreaRight" fmla="*/ 889920 w 935280"/>
              <a:gd name="textAreaTop" fmla="*/ 45360 h 1711080"/>
              <a:gd name="textAreaBottom" fmla="*/ 1665720 h 1711080"/>
            </a:gdLst>
            <a:ahLst/>
            <a:rect l="textAreaLeft" t="textAreaTop" r="textAreaRight" b="textAreaBottom"/>
            <a:pathLst>
              <a:path w="21600" h="39510">
                <a:moveTo>
                  <a:pt x="3600" y="0"/>
                </a:moveTo>
                <a:arcTo wR="3600" hR="3600" stAng="16200000" swAng="-5400000"/>
                <a:lnTo>
                  <a:pt x="0" y="35910"/>
                </a:lnTo>
                <a:arcTo wR="3600" hR="3600" stAng="10800000" swAng="-5400000"/>
                <a:lnTo>
                  <a:pt x="18000" y="395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76280" y="3792600"/>
            <a:ext cx="969840" cy="1711440"/>
          </a:xfrm>
          <a:custGeom>
            <a:avLst/>
            <a:gdLst>
              <a:gd name="textAreaLeft" fmla="*/ 47160 w 969840"/>
              <a:gd name="textAreaRight" fmla="*/ 922680 w 969840"/>
              <a:gd name="textAreaTop" fmla="*/ 47160 h 1711440"/>
              <a:gd name="textAreaBottom" fmla="*/ 1664280 h 1711440"/>
            </a:gdLst>
            <a:ahLst/>
            <a:rect l="textAreaLeft" t="textAreaTop" r="textAreaRight" b="textAreaBottom"/>
            <a:pathLst>
              <a:path w="21600" h="38111">
                <a:moveTo>
                  <a:pt x="3600" y="0"/>
                </a:moveTo>
                <a:arcTo wR="3600" hR="3600" stAng="16200000" swAng="-5400000"/>
                <a:lnTo>
                  <a:pt x="0" y="34511"/>
                </a:lnTo>
                <a:arcTo wR="3600" hR="3600" stAng="10800000" swAng="-5400000"/>
                <a:lnTo>
                  <a:pt x="18000" y="381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17760" y="3792600"/>
            <a:ext cx="987480" cy="1711440"/>
          </a:xfrm>
          <a:custGeom>
            <a:avLst/>
            <a:gdLst>
              <a:gd name="textAreaLeft" fmla="*/ 47880 w 987480"/>
              <a:gd name="textAreaRight" fmla="*/ 939600 w 987480"/>
              <a:gd name="textAreaTop" fmla="*/ 47880 h 1711440"/>
              <a:gd name="textAreaBottom" fmla="*/ 1663560 h 1711440"/>
            </a:gdLst>
            <a:ahLst/>
            <a:rect l="textAreaLeft" t="textAreaTop" r="textAreaRight" b="textAreaBottom"/>
            <a:pathLst>
              <a:path w="21600" h="37430">
                <a:moveTo>
                  <a:pt x="3600" y="0"/>
                </a:moveTo>
                <a:arcTo wR="3600" hR="3600" stAng="16200000" swAng="-5400000"/>
                <a:lnTo>
                  <a:pt x="0" y="33830"/>
                </a:lnTo>
                <a:arcTo wR="3600" hR="3600" stAng="10800000" swAng="-5400000"/>
                <a:lnTo>
                  <a:pt x="18000" y="374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2730600" y="3338640"/>
            <a:ext cx="3485880" cy="2654280"/>
            <a:chOff x="2730600" y="3338640"/>
            <a:chExt cx="3485880" cy="2654280"/>
          </a:xfrm>
        </p:grpSpPr>
        <p:sp>
          <p:nvSpPr>
            <p:cNvPr id="257" name=""/>
            <p:cNvSpPr/>
            <p:nvPr/>
          </p:nvSpPr>
          <p:spPr>
            <a:xfrm>
              <a:off x="2730600" y="3338640"/>
              <a:ext cx="348588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W36X359’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-- neutral (flavou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6x16½W359’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-- native (databas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774960" y="4178160"/>
              <a:ext cx="1130400" cy="917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6600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oduct Identifiers in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 classes of product item are defin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ndard Item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rietary I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brary I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formation exchanged by being “passed-by-reference” rather than being “passed by attribute value”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standard I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ssigning Item Refere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92" idx="0"/>
          </p:cNvCxnSpPr>
          <p:nvPr/>
        </p:nvCxnSpPr>
        <p:spPr>
          <a:xfrm>
            <a:off x="1778040" y="1636560"/>
            <a:ext cx="2160" cy="805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" name=""/>
          <p:cNvSpPr/>
          <p:nvPr/>
        </p:nvSpPr>
        <p:spPr>
          <a:xfrm>
            <a:off x="711000" y="197316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igned_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73840" y="119700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6680" y="1197000"/>
            <a:ext cx="304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erence_as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62520" y="130824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5" idx="2"/>
            <a:endCxn id="91" idx="3"/>
          </p:cNvCxnSpPr>
          <p:nvPr/>
        </p:nvCxnSpPr>
        <p:spPr>
          <a:xfrm flipH="1">
            <a:off x="3323880" y="1401840"/>
            <a:ext cx="242496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7" name=""/>
          <p:cNvSpPr/>
          <p:nvPr/>
        </p:nvSpPr>
        <p:spPr>
          <a:xfrm>
            <a:off x="3190680" y="3265560"/>
            <a:ext cx="104184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78280" y="33447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74840" y="3105000"/>
            <a:ext cx="0" cy="338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70160" y="3436920"/>
            <a:ext cx="70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92200" y="30942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38240" y="4956120"/>
            <a:ext cx="1879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proprie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16120" y="50576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20600" y="4022640"/>
            <a:ext cx="1879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98480" y="412416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7" idx="2"/>
            <a:endCxn id="105" idx="2"/>
          </p:cNvCxnSpPr>
          <p:nvPr/>
        </p:nvCxnSpPr>
        <p:spPr>
          <a:xfrm flipH="1" rot="16200000">
            <a:off x="894960" y="3443760"/>
            <a:ext cx="1112040" cy="437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8" name=""/>
          <p:cNvCxnSpPr>
            <a:stCxn id="107" idx="2"/>
            <a:endCxn id="103" idx="2"/>
          </p:cNvCxnSpPr>
          <p:nvPr/>
        </p:nvCxnSpPr>
        <p:spPr>
          <a:xfrm flipH="1" rot="16200000">
            <a:off x="438120" y="3901680"/>
            <a:ext cx="2045520" cy="455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9" name=""/>
          <p:cNvCxnSpPr>
            <a:stCxn id="110" idx="2"/>
            <a:endCxn id="111" idx="2"/>
          </p:cNvCxnSpPr>
          <p:nvPr/>
        </p:nvCxnSpPr>
        <p:spPr>
          <a:xfrm flipH="1" rot="16200000">
            <a:off x="5383800" y="3248640"/>
            <a:ext cx="811800" cy="559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12" name=""/>
          <p:cNvCxnSpPr>
            <a:stCxn id="110" idx="2"/>
            <a:endCxn id="113" idx="2"/>
          </p:cNvCxnSpPr>
          <p:nvPr/>
        </p:nvCxnSpPr>
        <p:spPr>
          <a:xfrm flipH="1" rot="16200000">
            <a:off x="4890960" y="3740760"/>
            <a:ext cx="1791360" cy="5547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14" name=""/>
          <p:cNvSpPr/>
          <p:nvPr/>
        </p:nvSpPr>
        <p:spPr>
          <a:xfrm>
            <a:off x="5229360" y="2382840"/>
            <a:ext cx="21301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_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43480" y="297972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52120" y="266868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85880" y="24559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296388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32360" y="3706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85040" y="341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04" idx="3"/>
            <a:endCxn id="119" idx="2"/>
          </p:cNvCxnSpPr>
          <p:nvPr/>
        </p:nvCxnSpPr>
        <p:spPr>
          <a:xfrm flipV="1">
            <a:off x="3827520" y="4379400"/>
            <a:ext cx="22500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0" name=""/>
          <p:cNvCxnSpPr>
            <a:stCxn id="102" idx="3"/>
            <a:endCxn id="121" idx="2"/>
          </p:cNvCxnSpPr>
          <p:nvPr/>
        </p:nvCxnSpPr>
        <p:spPr>
          <a:xfrm flipV="1">
            <a:off x="3844800" y="5317920"/>
            <a:ext cx="223272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22" name=""/>
          <p:cNvGrpSpPr/>
          <p:nvPr/>
        </p:nvGrpSpPr>
        <p:grpSpPr>
          <a:xfrm>
            <a:off x="6097680" y="3738600"/>
            <a:ext cx="2229480" cy="703800"/>
            <a:chOff x="6097680" y="3738600"/>
            <a:chExt cx="2229480" cy="703800"/>
          </a:xfrm>
        </p:grpSpPr>
        <p:sp>
          <p:nvSpPr>
            <p:cNvPr id="123" name=""/>
            <p:cNvSpPr/>
            <p:nvPr/>
          </p:nvSpPr>
          <p:spPr>
            <a:xfrm>
              <a:off x="6319080" y="3738600"/>
              <a:ext cx="2008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tem_ref_sourc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_standar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097680" y="38401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6091200" y="42861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093000" y="4718160"/>
            <a:ext cx="2229120" cy="703800"/>
            <a:chOff x="6093000" y="4718160"/>
            <a:chExt cx="2229120" cy="703800"/>
          </a:xfrm>
        </p:grpSpPr>
        <p:sp>
          <p:nvSpPr>
            <p:cNvPr id="125" name=""/>
            <p:cNvSpPr/>
            <p:nvPr/>
          </p:nvSpPr>
          <p:spPr>
            <a:xfrm>
              <a:off x="6314040" y="4718160"/>
              <a:ext cx="2008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tem_ref_sourc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_proprieta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093000" y="4819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6091200" y="522432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39280" y="39830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79240" y="49482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82360" y="104760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igned_to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06400" y="1168560"/>
            <a:ext cx="1879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29" idx="3"/>
            <a:endCxn id="131" idx="2"/>
          </p:cNvCxnSpPr>
          <p:nvPr/>
        </p:nvCxnSpPr>
        <p:spPr>
          <a:xfrm flipV="1">
            <a:off x="2712960" y="1523160"/>
            <a:ext cx="3402720" cy="10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6352200" y="1150920"/>
            <a:ext cx="20080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_sour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29360" y="14302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86920" y="1149480"/>
            <a:ext cx="29984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INV) standard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25480" y="346536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27480" y="35449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907320" y="1892160"/>
            <a:ext cx="0" cy="681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433760" y="3637080"/>
            <a:ext cx="2805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13040" y="2166840"/>
            <a:ext cx="32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ization_organ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92400" y="2565360"/>
            <a:ext cx="4707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226280" y="1906560"/>
            <a:ext cx="0" cy="171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56160" y="323676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me_of_stan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05560" y="402912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38320" y="4160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79560" y="402912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648160" y="4041720"/>
            <a:ext cx="152352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r_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47" idx="0"/>
            <a:endCxn id="148" idx="6"/>
          </p:cNvCxnSpPr>
          <p:nvPr/>
        </p:nvCxnSpPr>
        <p:spPr>
          <a:xfrm rot="5400000">
            <a:off x="5893560" y="2473200"/>
            <a:ext cx="293040" cy="3252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49" name=""/>
          <p:cNvCxnSpPr>
            <a:stCxn id="143" idx="6"/>
            <a:endCxn id="145" idx="1"/>
          </p:cNvCxnSpPr>
          <p:nvPr/>
        </p:nvCxnSpPr>
        <p:spPr>
          <a:xfrm>
            <a:off x="2205000" y="4237200"/>
            <a:ext cx="41184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50" name=""/>
          <p:cNvGrpSpPr/>
          <p:nvPr/>
        </p:nvGrpSpPr>
        <p:grpSpPr>
          <a:xfrm>
            <a:off x="1104840" y="3457440"/>
            <a:ext cx="1371600" cy="390240"/>
            <a:chOff x="1104840" y="3457440"/>
            <a:chExt cx="1371600" cy="390240"/>
          </a:xfrm>
        </p:grpSpPr>
        <p:sp>
          <p:nvSpPr>
            <p:cNvPr id="151" name=""/>
            <p:cNvSpPr/>
            <p:nvPr/>
          </p:nvSpPr>
          <p:spPr>
            <a:xfrm>
              <a:off x="1104840" y="3457440"/>
              <a:ext cx="10447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24160" y="358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65400" y="345744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4" name=""/>
          <p:cNvCxnSpPr>
            <a:stCxn id="152" idx="6"/>
            <a:endCxn id="134" idx="1"/>
          </p:cNvCxnSpPr>
          <p:nvPr/>
        </p:nvCxnSpPr>
        <p:spPr>
          <a:xfrm flipV="1">
            <a:off x="2490480" y="3663720"/>
            <a:ext cx="100368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7666200" y="1906560"/>
            <a:ext cx="0" cy="203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00440" y="382896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ear_of_stan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25480" y="463536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227480" y="47149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25840" y="4807080"/>
            <a:ext cx="3684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104840" y="4627440"/>
            <a:ext cx="1371600" cy="390240"/>
            <a:chOff x="1104840" y="4627440"/>
            <a:chExt cx="1371600" cy="390240"/>
          </a:xfrm>
        </p:grpSpPr>
        <p:sp>
          <p:nvSpPr>
            <p:cNvPr id="161" name=""/>
            <p:cNvSpPr/>
            <p:nvPr/>
          </p:nvSpPr>
          <p:spPr>
            <a:xfrm>
              <a:off x="1104840" y="4627440"/>
              <a:ext cx="10447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324160" y="475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165400" y="462744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64" name=""/>
          <p:cNvCxnSpPr>
            <a:stCxn id="162" idx="6"/>
            <a:endCxn id="157" idx="1"/>
          </p:cNvCxnSpPr>
          <p:nvPr/>
        </p:nvCxnSpPr>
        <p:spPr>
          <a:xfrm flipV="1">
            <a:off x="2490480" y="4833720"/>
            <a:ext cx="100368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65" name=""/>
          <p:cNvSpPr/>
          <p:nvPr/>
        </p:nvSpPr>
        <p:spPr>
          <a:xfrm>
            <a:off x="4600440" y="440676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rsion_of_stan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93160" y="1906560"/>
            <a:ext cx="0" cy="28846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13080" y="415116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294920" y="2322360"/>
            <a:ext cx="897480" cy="1108080"/>
            <a:chOff x="1294920" y="2322360"/>
            <a:chExt cx="897480" cy="1108080"/>
          </a:xfrm>
        </p:grpSpPr>
        <p:sp>
          <p:nvSpPr>
            <p:cNvPr id="168" name=""/>
            <p:cNvSpPr/>
            <p:nvPr/>
          </p:nvSpPr>
          <p:spPr>
            <a:xfrm>
              <a:off x="2004840" y="24526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294920" y="2322360"/>
              <a:ext cx="6609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66720" y="32781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1641600" y="2738160"/>
              <a:ext cx="0" cy="525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tandard I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65040" y="993600"/>
            <a:ext cx="1879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proprie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73" idx="3"/>
            <a:endCxn id="175" idx="2"/>
          </p:cNvCxnSpPr>
          <p:nvPr/>
        </p:nvCxnSpPr>
        <p:spPr>
          <a:xfrm flipV="1">
            <a:off x="2271240" y="1348560"/>
            <a:ext cx="3614040" cy="10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6" name=""/>
          <p:cNvSpPr/>
          <p:nvPr/>
        </p:nvSpPr>
        <p:spPr>
          <a:xfrm>
            <a:off x="6122160" y="976320"/>
            <a:ext cx="20080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_sour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proprie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99320" y="12556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493360" y="973080"/>
            <a:ext cx="3201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INV) proprietary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60520" y="450684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62520" y="45864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76920" y="1717560"/>
            <a:ext cx="0" cy="909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68800" y="4678200"/>
            <a:ext cx="2805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09920" y="229248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ufacturers_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52240" y="2401920"/>
            <a:ext cx="1569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62520" y="25430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68800" y="2635200"/>
            <a:ext cx="2519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996240" y="1731960"/>
            <a:ext cx="0" cy="296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290840" y="427824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ufacturers_r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40600" y="507060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773360" y="5202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14600" y="5070600"/>
            <a:ext cx="144360" cy="390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382840" y="5083200"/>
            <a:ext cx="152352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r_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"/>
          <p:cNvCxnSpPr>
            <a:stCxn id="193" idx="0"/>
            <a:endCxn id="194" idx="6"/>
          </p:cNvCxnSpPr>
          <p:nvPr/>
        </p:nvCxnSpPr>
        <p:spPr>
          <a:xfrm rot="5400000">
            <a:off x="5038200" y="2889000"/>
            <a:ext cx="1508760" cy="3286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89" idx="6"/>
            <a:endCxn id="191" idx="1"/>
          </p:cNvCxnSpPr>
          <p:nvPr/>
        </p:nvCxnSpPr>
        <p:spPr>
          <a:xfrm>
            <a:off x="1940040" y="5277960"/>
            <a:ext cx="41184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96" name=""/>
          <p:cNvGrpSpPr/>
          <p:nvPr/>
        </p:nvGrpSpPr>
        <p:grpSpPr>
          <a:xfrm>
            <a:off x="839880" y="4498920"/>
            <a:ext cx="1371600" cy="390240"/>
            <a:chOff x="839880" y="4498920"/>
            <a:chExt cx="1371600" cy="390240"/>
          </a:xfrm>
        </p:grpSpPr>
        <p:sp>
          <p:nvSpPr>
            <p:cNvPr id="197" name=""/>
            <p:cNvSpPr/>
            <p:nvPr/>
          </p:nvSpPr>
          <p:spPr>
            <a:xfrm>
              <a:off x="839880" y="4498920"/>
              <a:ext cx="10447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59200" y="4630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900440" y="449892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0" name=""/>
          <p:cNvCxnSpPr>
            <a:stCxn id="198" idx="6"/>
            <a:endCxn id="178" idx="1"/>
          </p:cNvCxnSpPr>
          <p:nvPr/>
        </p:nvCxnSpPr>
        <p:spPr>
          <a:xfrm flipV="1">
            <a:off x="2225160" y="4704480"/>
            <a:ext cx="100368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1" name=""/>
          <p:cNvSpPr/>
          <p:nvPr/>
        </p:nvSpPr>
        <p:spPr>
          <a:xfrm>
            <a:off x="7435800" y="1731960"/>
            <a:ext cx="0" cy="203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335480" y="487044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ear_of_r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60520" y="567684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57564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160880" y="5848200"/>
            <a:ext cx="3684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839880" y="5668920"/>
            <a:ext cx="1371600" cy="390240"/>
            <a:chOff x="839880" y="5668920"/>
            <a:chExt cx="1371600" cy="390240"/>
          </a:xfrm>
        </p:grpSpPr>
        <p:sp>
          <p:nvSpPr>
            <p:cNvPr id="207" name=""/>
            <p:cNvSpPr/>
            <p:nvPr/>
          </p:nvSpPr>
          <p:spPr>
            <a:xfrm>
              <a:off x="839880" y="5668920"/>
              <a:ext cx="10447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059200" y="5800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900440" y="566892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0" name=""/>
          <p:cNvCxnSpPr>
            <a:stCxn id="208" idx="6"/>
            <a:endCxn id="203" idx="1"/>
          </p:cNvCxnSpPr>
          <p:nvPr/>
        </p:nvCxnSpPr>
        <p:spPr>
          <a:xfrm flipV="1">
            <a:off x="2225160" y="5874480"/>
            <a:ext cx="100368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1" name=""/>
          <p:cNvSpPr/>
          <p:nvPr/>
        </p:nvSpPr>
        <p:spPr>
          <a:xfrm>
            <a:off x="4335480" y="544824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rsion_of_r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862760" y="1731960"/>
            <a:ext cx="0" cy="41194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93480" y="2386080"/>
            <a:ext cx="104184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65200" y="252252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64640" y="302904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469880" y="3699000"/>
            <a:ext cx="5493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48120" y="51926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465200" y="312264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43000" y="382104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183" idx="1"/>
            <a:endCxn id="214" idx="6"/>
          </p:cNvCxnSpPr>
          <p:nvPr/>
        </p:nvCxnSpPr>
        <p:spPr>
          <a:xfrm flipH="1">
            <a:off x="1666440" y="2614680"/>
            <a:ext cx="658080" cy="216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20" name=""/>
          <p:cNvSpPr/>
          <p:nvPr/>
        </p:nvSpPr>
        <p:spPr>
          <a:xfrm>
            <a:off x="1738800" y="224640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646280" y="2820600"/>
            <a:ext cx="1009440" cy="405360"/>
            <a:chOff x="1646280" y="2820600"/>
            <a:chExt cx="1009440" cy="405360"/>
          </a:xfrm>
        </p:grpSpPr>
        <p:sp>
          <p:nvSpPr>
            <p:cNvPr id="222" name=""/>
            <p:cNvSpPr/>
            <p:nvPr/>
          </p:nvSpPr>
          <p:spPr>
            <a:xfrm>
              <a:off x="1646280" y="3225960"/>
              <a:ext cx="100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2655720" y="2820600"/>
              <a:ext cx="0" cy="405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2252520" y="2804760"/>
            <a:ext cx="1298520" cy="1110960"/>
            <a:chOff x="2252520" y="2804760"/>
            <a:chExt cx="1298520" cy="1110960"/>
          </a:xfrm>
        </p:grpSpPr>
        <p:sp>
          <p:nvSpPr>
            <p:cNvPr id="225" name=""/>
            <p:cNvSpPr/>
            <p:nvPr/>
          </p:nvSpPr>
          <p:spPr>
            <a:xfrm>
              <a:off x="2252520" y="3915720"/>
              <a:ext cx="129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3551040" y="2804760"/>
              <a:ext cx="0" cy="1110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1712160" y="28386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35240" y="354960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57440" y="43369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1731960" y="4081320"/>
            <a:ext cx="0" cy="26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036800" y="43369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1111320" y="3427200"/>
            <a:ext cx="0" cy="89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640" y="46245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506520" y="2792160"/>
            <a:ext cx="0" cy="19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6520" y="4702320"/>
            <a:ext cx="158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oprietary I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04920" y="450720"/>
            <a:ext cx="845820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SO-10303-2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AD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LE_DESCRIPTION (('STEP US FLAVOUR'), '1'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LE_NAME ('Step US Flavour', '11-05-1998', (‘’), (‘’), ‘’,’’,’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LE_SCHEMA (('STRUCTURAL_FRAME_SCHEMA'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DSE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000 = GROUP (‘US Flavour list’, ‘List of item references in accordance with ASTM standards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001 = FLAVOUR (#3000, (#1, #3, ….. , #2354, #2355)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1 = ITEM_REFERENCE_STANDARD (‘W1100X424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 = ITEM_REF_SOURCE_STANDARD (‘ASTM’, ‘ASTM_A6M’, 1994, $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 = ITEM_REFERENCE_STANDARD (‘W1100X369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4 = ITEM_REFERENCE_STANDARD (‘W1100X333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5 = ITEM_REFERENCE_STANDARD (‘W1100X295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354 = ITEM_REFERENCE_STANDARD (‘M30_TYPE1’, #2349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355 = ITEM_REFERENCE_STANDARD (‘M36_TYPE1’, #2349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DSE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D-ISO-10303-21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60" y="-50760"/>
            <a:ext cx="343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Physical File (extra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19240" y="976320"/>
            <a:ext cx="865476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01 = SECTION_PROFILE_I_TYPE (1, 'W14x16x500', 'Wide flange beam to ASTM', 'Plastic', 10, .F., #202, #203, #204, #205, #206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02 = POSITIVE_LENGTH_MEASURE_WITH_UNIT (POSITIVE_LENGTH_MEASURE(498.0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03 = POSITIVE_ LENGTH_MEASURE_WITH_UNIT (POSITIVE_LENGTH_MEASURE(432.0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04 = POSITIVE_ LENGTH_MEASURE_WITH_UNIT (POSITIVE_LENGTH_MEASURE(55.6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05 = POSITIVE_ LENGTH_MEASURE_WITH_UNIT (POSITIVE_LENGTH_MEASURE(88.9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06 = POSITIVE_ LENGTH_MEASURE_WITH_UNIT (POSITIVE_LENGTH_MEASURE(280.0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1021 = (LENGTH_UNIT()NAMED_UNIT(*)SI_UNIT(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4440" y="101520"/>
            <a:ext cx="8740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andard item - passed by attribute value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12680" y="976320"/>
            <a:ext cx="8961480" cy="50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dddd"/>
                </a:solidFill>
                <a:latin typeface="Arial"/>
              </a:rPr>
              <a:t>#201 = SECTION_PROFILE_I_TYPE (1, 'W14x16x500', 'Wide flange beam to ASTM', 'Plastic', $, #202, #203, #204, #205, #206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15 = SECTION_PROPERTIES (#201, $, #216, #217, #218, $, $, $, $, $, $, $, #219, #220, $, $, $, $, $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16 = INERTIA_MEASURE_WITH_UNIT (INERTIA_MEASURE(342200.0), #115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17 = INERTIA_MEASURE_WITH_UNIT (INERTIA_MEASURE(120000.0), #115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18 = AREA_MEASURE_WITH_UNIT (AREA_MEASURE(950.0), #116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19 = MODULUS_MEASURE_WITH_UNIT (MODULUS_MEASURE(17180.0), #1157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20 = MODULUS_MEASURE_WITH_UNIT (MODULUS_MEASURE(8558.0), #1157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1149 = (LENGTH_UNIT()NAMED_UNIT(*)SI_UNIT(.CENTI.,.METRE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1150 = DERIVED_UNIT_ELEMENT (#1149, 4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1151 = INERTIA_UNIT ((#115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4440" y="101520"/>
            <a:ext cx="8740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andard item - passed by attribute value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77760" y="976320"/>
            <a:ext cx="8961480" cy="14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01 = ITEM_REFERENCE_STANDARD ('W1100X424', #30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02 = ITEM_REF_SOURCE_STANDARD('ASTM', 'ASTM_A6M', 1994, $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03 = SECTION_PROFILE (2, 'W', 'Wide flange beam to ASTM’, 'Plastic', $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04 =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TEM_REFERENCE_ASSIGNED (#301, #303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6040" y="114480"/>
            <a:ext cx="8061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tandard item - passed by refer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3T14:53:59Z</dcterms:created>
  <dc:creator>Andrew Crowley</dc:creator>
  <dc:description/>
  <dc:language>en-US</dc:language>
  <cp:lastModifiedBy>Andrew Crowley</cp:lastModifiedBy>
  <dcterms:modified xsi:type="dcterms:W3CDTF">2000-11-13T20:43:20Z</dcterms:modified>
  <cp:revision>4</cp:revision>
  <dc:subject/>
  <dc:title>CIS/2 Workshop 5, Houston, TX 13th Nov 2000</dc:title>
</cp:coreProperties>
</file>